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52B65-1C0E-424C-95C5-E030BC16F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BD760-B525-4ABC-86C8-BE8DA0F46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A82E6-F536-4857-973B-F600B6130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DE260-F447-4ADE-ACA4-9CFAD9B7B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A1F68-400F-45C1-893F-2D1CB5E5E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A74D4-BA96-4117-8DFB-A850D4839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A875E-92EF-48FD-9118-46A5ACC56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E22F9-D3A1-4F67-BD03-3F02FA59F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59692-DA25-4649-B44E-CDC72BB38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98CCA-FC30-4E7C-B942-BF3433C1E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C01D1-66CF-45A6-835C-85CB4B338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DE10A-AF3E-4086-85E7-1B55326BE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35135-CB27-4676-A29F-A3EE059B4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34183-AAD1-4A15-9612-3B5483557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B3C20-3476-4B8F-A1DC-F146E5644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A9D7D-C791-41CA-B9AE-B1E8E810D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A0073-E12A-47C8-ABCD-F09B5F993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B91B425-6DAA-4B6D-B9F2-3EFBDEFE3A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F80A40-E560-41AB-8933-F15A98B97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94B70A-B04B-413B-A846-226F8DE5B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B74B10-0419-437E-9CD1-6096221868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76F4B4-C379-4153-B855-24C3E473B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957A7-FE91-49E2-98CC-409CCC1C0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13E2CF-8CCF-4AC0-9E73-0BB66E44F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72396C-BCB9-4AE4-A196-36A4AF59C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395A87-B847-4BB8-A971-0C673D15C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524AC4-9D88-43B1-95FA-D5608D332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9FEE172-C66E-4A1A-98DD-431108FDD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57D2C8D-6DF4-4A24-AAEF-73274E60B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449A1ED-6A8E-46B0-8194-4FDB35D062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B3147F-B19B-4685-A659-0334F78521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87386-F166-43D1-B987-0D6DCA28D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44365-ED05-481B-8D51-4A2525ABF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727D9-F90B-481F-BA9E-1CA7B6FF3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DCEA5B-C4AE-428F-9B74-D28CF8CA19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CB8E4-5DDC-4CF5-ADCF-B1EF5C313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8F5A89-2B23-4208-8FA6-8648858853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FF1C9-54DC-45C9-88A2-0207B429C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3DED5-5707-4EDC-8D16-4C767EB95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D1117-D814-4396-A639-0C365BE74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95F2F-9B11-4A7A-9434-E1711B5567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B5EE7E-E9E4-4027-B5E5-7C4D1A3333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0FBF1F-6196-4437-86BD-F4CD6D2B0B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7B74A68-AF3B-48B2-9B2E-59F0CA9DA2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EAA7-72EC-4A6E-916A-DDA4562A4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315F538-2CA0-4A1F-BC73-36819DB32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B53578-BF79-47B7-AAAD-5543E6145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DDE011-F2A2-4806-945E-A57E11300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896708-BEB6-41AB-B857-FC0F67304B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208832-7488-4FF4-83C3-2C81FC0E0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4CD6D7-5F96-4D11-94AF-689FC44D25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190A1A-A919-4917-A57F-3E11F417B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FD7AA4-2273-4E23-A02F-42AA020498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FCE631-4C68-45F1-9EA3-6C4A6FD7C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0D7E2E4-ED5F-4EC1-B06F-AED4A474AF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25013-086B-4687-B8B5-23618E431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8D47635-E12D-432D-87DF-79A8CD73AB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A62CC2F-0ABD-4D6F-ADA0-8494552DDD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17D9B86-FB22-4743-87BD-CDED735E39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70182CC-D892-488D-A620-78F558F644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322A6B4-C8F0-4073-BC3E-9942E354F0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E6B92F1-167F-47C1-B86B-8881AE7063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CD7DE0B-0E8F-4F94-80FB-52D1F7C9E5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2F37EB-FF4B-4ED9-822E-378340B47B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72B4B96-EF24-41B7-BC52-D37C86125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02B46B-F909-49DA-B9C8-0F444A486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99A8-1E1A-4834-92E5-E5DBED060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8501747-17DD-421B-A33D-2E06E6271C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DE37F47-A140-4478-A534-3CFA7224C4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5BBC655-EF9C-4F84-BE5E-319EB05412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9EEB4F4-C4D0-4B60-B867-95E7930A0B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168127A-2204-4B32-BECA-93AA75DEB7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FFB481-367E-4460-AF90-3ED231319D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AA50450-7C30-4B39-948D-9B147F2512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A617D79-B24B-431E-B752-791D12BEAA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E972DD9-3DEE-43A4-8911-4BDEDD2647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5544620-3D27-4257-BF89-CA9B67BC6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5830-FAF0-4780-A170-7DD65DA03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292900-DBE3-4A01-B204-FB655AA577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989B32B-9EBC-4189-9B60-5712B10DFA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065205E-FF37-49E2-9D64-4C758006A1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B445E17-1BBE-4B70-8122-35127BBD7D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2929499-823F-4E74-9FB2-22012DD142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3727E-42D1-42BE-B4F9-53A0B6285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56CB-A0E5-42AB-85A6-F62C25A3FC9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90F3-CAB4-4EB4-B79E-E5FB391D579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3F58-9FDA-46E0-BC29-36A4FBFC650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6064-CFBB-468D-91D4-321F23CB334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2180-F71D-4196-AD82-6D02D670DF4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AE5E-321B-430D-9FE3-CB6CB670626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1BE6-26C9-45C6-84AC-4ED86764342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762120"/>
            <a:ext cx="69343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entury Schoolbook"/>
              </a:rPr>
              <a:t>MINISTRY OF WATER AND ENERGY</a:t>
            </a:r>
            <a:br>
              <a:rPr sz="4400"/>
            </a:br>
            <a:br>
              <a:rPr sz="4400"/>
            </a:br>
            <a:r>
              <a:rPr b="0" lang="en-US" sz="3000" spc="-1" strike="noStrike">
                <a:solidFill>
                  <a:srgbClr val="575f6d"/>
                </a:solidFill>
                <a:latin typeface="Century Schoolbook"/>
              </a:rPr>
              <a:t>MODELING EXPERIENCE </a:t>
            </a:r>
            <a:br>
              <a:rPr sz="3000"/>
            </a:br>
            <a:br>
              <a:rPr sz="3000"/>
            </a:br>
            <a:br>
              <a:rPr sz="3000"/>
            </a:br>
            <a:br>
              <a:rPr sz="3000"/>
            </a:b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	</a:t>
            </a:r>
            <a:r>
              <a:rPr b="0" lang="en-US" sz="3000" spc="-1" strike="noStrike">
                <a:solidFill>
                  <a:srgbClr val="575f6d"/>
                </a:solidFill>
                <a:latin typeface="Century Schoolbook"/>
              </a:rPr>
              <a:t>NOV, 2012</a:t>
            </a:r>
            <a:br>
              <a:rPr sz="3000"/>
            </a:br>
            <a:br>
              <a:rPr sz="3000"/>
            </a:b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761760"/>
            <a:ext cx="7467480" cy="655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Practical Experiences</a:t>
            </a:r>
            <a:endParaRPr b="0" lang="en-US" sz="2800" spc="-1" strike="noStrike">
              <a:solidFill>
                <a:srgbClr val="575f6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Main Activiti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ervoir Manage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lood forecasting, monitoring and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oo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ecasting using simple EXEL model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ecasting using models like HEC-HMS, MIKE II</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nitoring near real time dat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PREDICTION OF RESERVOIR WL USING SIMPLE EXEL MODELS</a:t>
            </a:r>
            <a:endParaRPr b="0" lang="en-US" sz="2000" spc="-1" strike="noStrike">
              <a:solidFill>
                <a:srgbClr val="575f6d"/>
              </a:solidFill>
              <a:latin typeface="Century Schoolbook"/>
            </a:endParaRPr>
          </a:p>
        </p:txBody>
      </p:sp>
      <p:pic>
        <p:nvPicPr>
          <p:cNvPr id="372" name="Content Placeholder 4" descr=""/>
          <p:cNvPicPr/>
          <p:nvPr/>
        </p:nvPicPr>
        <p:blipFill>
          <a:blip r:embed="rId1"/>
          <a:stretch/>
        </p:blipFill>
        <p:spPr>
          <a:xfrm>
            <a:off x="450720" y="1219320"/>
            <a:ext cx="8007480" cy="526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990360" y="609480"/>
            <a:ext cx="7715160" cy="5105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ainfall forecast as upon 14</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of September 2012</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74" name="Picture 3" descr="D:\Flood2012\DailyForecastReport\14Sep2012_Forecast\rain_14SEP2012_24.png"/>
          <p:cNvPicPr/>
          <p:nvPr/>
        </p:nvPicPr>
        <p:blipFill>
          <a:blip r:embed="rId1"/>
          <a:srcRect l="11919" t="0" r="1890" b="0"/>
          <a:stretch/>
        </p:blipFill>
        <p:spPr>
          <a:xfrm>
            <a:off x="533520" y="1066680"/>
            <a:ext cx="5867280" cy="5105520"/>
          </a:xfrm>
          <a:prstGeom prst="rect">
            <a:avLst/>
          </a:prstGeom>
          <a:ln w="0">
            <a:noFill/>
          </a:ln>
          <a:effectLst>
            <a:outerShdw dist="139498" dir="2700000" blurRad="0" rotWithShape="0">
              <a:srgbClr val="333333">
                <a:alpha val="65000"/>
              </a:srgbClr>
            </a:outerShdw>
          </a:effectLst>
        </p:spPr>
      </p:pic>
      <p:pic>
        <p:nvPicPr>
          <p:cNvPr id="375" name="Picture 4" descr="D:\Flood2012\DailyForecastReport\14Sep2012_Forecast\rain_14SEP2012_48.png"/>
          <p:cNvPicPr/>
          <p:nvPr/>
        </p:nvPicPr>
        <p:blipFill>
          <a:blip r:embed="rId2"/>
          <a:srcRect l="11201" t="0" r="2220" b="0"/>
          <a:stretch/>
        </p:blipFill>
        <p:spPr>
          <a:xfrm>
            <a:off x="1371600" y="1143000"/>
            <a:ext cx="5943600" cy="5148360"/>
          </a:xfrm>
          <a:prstGeom prst="rect">
            <a:avLst/>
          </a:prstGeom>
          <a:ln w="0">
            <a:noFill/>
          </a:ln>
          <a:effectLst>
            <a:outerShdw dist="139498" dir="2700000" blurRad="0" rotWithShape="0">
              <a:srgbClr val="333333">
                <a:alpha val="65000"/>
              </a:srgbClr>
            </a:outerShdw>
          </a:effectLst>
        </p:spPr>
      </p:pic>
      <p:pic>
        <p:nvPicPr>
          <p:cNvPr id="376" name="Picture 2" descr="D:\Flood2012\DailyForecastReport\14Sep2012_Forecast\rain_14SEP2012_72.png"/>
          <p:cNvPicPr/>
          <p:nvPr/>
        </p:nvPicPr>
        <p:blipFill>
          <a:blip r:embed="rId3"/>
          <a:srcRect l="11919" t="0" r="2239" b="0"/>
          <a:stretch/>
        </p:blipFill>
        <p:spPr>
          <a:xfrm>
            <a:off x="2743200" y="990720"/>
            <a:ext cx="5843520" cy="5105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374"/>
                                        </p:tgtEl>
                                        <p:attrNameLst>
                                          <p:attrName>style.visibility</p:attrName>
                                        </p:attrNameLst>
                                      </p:cBhvr>
                                      <p:to>
                                        <p:strVal val="visible"/>
                                      </p:to>
                                    </p:set>
                                    <p:anim calcmode="lin" valueType="num">
                                      <p:cBhvr additive="base">
                                        <p:cTn id="7" dur="2000" fill="hold"/>
                                        <p:tgtEl>
                                          <p:spTgt spid="374"/>
                                        </p:tgtEl>
                                        <p:attrNameLst>
                                          <p:attrName>ppt_x</p:attrName>
                                        </p:attrNameLst>
                                      </p:cBhvr>
                                      <p:tavLst>
                                        <p:tav tm="0">
                                          <p:val>
                                            <p:strVal val="1+#ppt_w/2"/>
                                          </p:val>
                                        </p:tav>
                                        <p:tav tm="100000">
                                          <p:val>
                                            <p:strVal val="#ppt_x"/>
                                          </p:val>
                                        </p:tav>
                                      </p:tavLst>
                                    </p:anim>
                                    <p:anim calcmode="lin" valueType="num">
                                      <p:cBhvr additive="base">
                                        <p:cTn id="8" dur="2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375"/>
                                        </p:tgtEl>
                                        <p:attrNameLst>
                                          <p:attrName>style.visibility</p:attrName>
                                        </p:attrNameLst>
                                      </p:cBhvr>
                                      <p:to>
                                        <p:strVal val="visible"/>
                                      </p:to>
                                    </p:set>
                                    <p:anim calcmode="lin" valueType="num">
                                      <p:cBhvr additive="base">
                                        <p:cTn id="13" dur="2000" fill="hold"/>
                                        <p:tgtEl>
                                          <p:spTgt spid="375"/>
                                        </p:tgtEl>
                                        <p:attrNameLst>
                                          <p:attrName>ppt_x</p:attrName>
                                        </p:attrNameLst>
                                      </p:cBhvr>
                                      <p:tavLst>
                                        <p:tav tm="0">
                                          <p:val>
                                            <p:strVal val="1+#ppt_w/2"/>
                                          </p:val>
                                        </p:tav>
                                        <p:tav tm="100000">
                                          <p:val>
                                            <p:strVal val="#ppt_x"/>
                                          </p:val>
                                        </p:tav>
                                      </p:tavLst>
                                    </p:anim>
                                    <p:anim calcmode="lin" valueType="num">
                                      <p:cBhvr additive="base">
                                        <p:cTn id="14" dur="20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76"/>
                                        </p:tgtEl>
                                        <p:attrNameLst>
                                          <p:attrName>style.visibility</p:attrName>
                                        </p:attrNameLst>
                                      </p:cBhvr>
                                      <p:to>
                                        <p:strVal val="visible"/>
                                      </p:to>
                                    </p:set>
                                    <p:anim calcmode="lin" valueType="num">
                                      <p:cBhvr additive="base">
                                        <p:cTn id="19" dur="2000" fill="hold"/>
                                        <p:tgtEl>
                                          <p:spTgt spid="376"/>
                                        </p:tgtEl>
                                        <p:attrNameLst>
                                          <p:attrName>ppt_x</p:attrName>
                                        </p:attrNameLst>
                                      </p:cBhvr>
                                      <p:tavLst>
                                        <p:tav tm="0">
                                          <p:val>
                                            <p:strVal val="1+#ppt_w/2"/>
                                          </p:val>
                                        </p:tav>
                                        <p:tav tm="100000">
                                          <p:val>
                                            <p:strVal val="#ppt_x"/>
                                          </p:val>
                                        </p:tav>
                                      </p:tavLst>
                                    </p:anim>
                                    <p:anim calcmode="lin" valueType="num">
                                      <p:cBhvr additive="base">
                                        <p:cTn id="20" dur="20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142640" y="685440"/>
            <a:ext cx="7543800" cy="5181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unoff forecast as upon 14</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of September 2012</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grpSp>
        <p:nvGrpSpPr>
          <p:cNvPr id="378" name="Group 5"/>
          <p:cNvGrpSpPr/>
          <p:nvPr/>
        </p:nvGrpSpPr>
        <p:grpSpPr>
          <a:xfrm>
            <a:off x="914400" y="1143000"/>
            <a:ext cx="7543800" cy="5145120"/>
            <a:chOff x="914400" y="1143000"/>
            <a:chExt cx="7543800" cy="5145120"/>
          </a:xfrm>
        </p:grpSpPr>
        <p:pic>
          <p:nvPicPr>
            <p:cNvPr id="379" name="Picture 2" descr="D:\Flood2012\DailyForecastReport\14Sep2012_Forecast\GaugeFlows.png"/>
            <p:cNvPicPr/>
            <p:nvPr/>
          </p:nvPicPr>
          <p:blipFill>
            <a:blip r:embed="rId1"/>
            <a:srcRect l="6755" t="4749" r="4054" b="11216"/>
            <a:stretch/>
          </p:blipFill>
          <p:spPr>
            <a:xfrm>
              <a:off x="914400" y="1143000"/>
              <a:ext cx="7543800" cy="5145120"/>
            </a:xfrm>
            <a:prstGeom prst="rect">
              <a:avLst/>
            </a:prstGeom>
            <a:ln w="0">
              <a:noFill/>
            </a:ln>
            <a:effectLst>
              <a:outerShdw dist="139498" dir="2700000" blurRad="0" rotWithShape="0">
                <a:srgbClr val="333333">
                  <a:alpha val="65000"/>
                </a:srgbClr>
              </a:outerShdw>
            </a:effectLst>
          </p:spPr>
        </p:pic>
        <p:grpSp>
          <p:nvGrpSpPr>
            <p:cNvPr id="380" name="Rectangle 4"/>
            <p:cNvGrpSpPr/>
            <p:nvPr/>
          </p:nvGrpSpPr>
          <p:grpSpPr>
            <a:xfrm>
              <a:off x="1615320" y="1212840"/>
              <a:ext cx="5833800" cy="944640"/>
              <a:chOff x="1615320" y="1212840"/>
              <a:chExt cx="5833800" cy="944640"/>
            </a:xfrm>
          </p:grpSpPr>
          <p:pic>
            <p:nvPicPr>
              <p:cNvPr id="381" name="Rectangle 4" descr=""/>
              <p:cNvPicPr/>
              <p:nvPr/>
            </p:nvPicPr>
            <p:blipFill>
              <a:blip r:embed="rId2"/>
              <a:stretch/>
            </p:blipFill>
            <p:spPr>
              <a:xfrm>
                <a:off x="1615320" y="1212840"/>
                <a:ext cx="5833800" cy="944640"/>
              </a:xfrm>
              <a:prstGeom prst="rect">
                <a:avLst/>
              </a:prstGeom>
              <a:ln w="0">
                <a:noFill/>
              </a:ln>
            </p:spPr>
          </p:pic>
          <p:sp>
            <p:nvSpPr>
              <p:cNvPr id="382" name=""/>
              <p:cNvSpPr/>
              <p:nvPr/>
            </p:nvSpPr>
            <p:spPr>
              <a:xfrm>
                <a:off x="1683000" y="1268640"/>
                <a:ext cx="5699880" cy="798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eb500"/>
                    </a:solidFill>
                    <a:latin typeface="Century Schoolbook"/>
                  </a:rPr>
                  <a:t>Fogera Rivers (Gumara and Ribb): Peak flood is expected in the evening of 15</a:t>
                </a:r>
                <a:r>
                  <a:rPr b="1" lang="en-US" sz="1000" spc="-1" strike="noStrike" baseline="30000">
                    <a:solidFill>
                      <a:srgbClr val="ceb500"/>
                    </a:solidFill>
                    <a:latin typeface="Century Schoolbook"/>
                  </a:rPr>
                  <a:t>th</a:t>
                </a:r>
                <a:r>
                  <a:rPr b="1" lang="en-US" sz="1000" spc="-1" strike="noStrike">
                    <a:solidFill>
                      <a:srgbClr val="ceb500"/>
                    </a:solidFill>
                    <a:latin typeface="Century Schoolbook"/>
                  </a:rPr>
                  <a:t> and in the morning of 16</a:t>
                </a:r>
                <a:r>
                  <a:rPr b="1" lang="en-US" sz="1000" spc="-1" strike="noStrike" baseline="30000">
                    <a:solidFill>
                      <a:srgbClr val="ceb500"/>
                    </a:solidFill>
                    <a:latin typeface="Century Schoolbook"/>
                  </a:rPr>
                  <a:t>th</a:t>
                </a:r>
                <a:r>
                  <a:rPr b="1" lang="en-US" sz="1000" spc="-1" strike="noStrike">
                    <a:solidFill>
                      <a:srgbClr val="ceb500"/>
                    </a:solidFill>
                    <a:latin typeface="Century Schoolbook"/>
                  </a:rPr>
                  <a:t> September, 2012 (around midnight)</a:t>
                </a:r>
                <a:r>
                  <a:rPr b="0" lang="en-US" sz="1000" spc="-1" strike="noStrike">
                    <a:solidFill>
                      <a:srgbClr val="ceb500"/>
                    </a:solidFill>
                    <a:latin typeface="Century Schoolboo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eb500"/>
                    </a:solidFill>
                    <a:latin typeface="Century Schoolbook"/>
                  </a:rPr>
                  <a:t>Dembiya Rivers (Dirma and Megech): Peak flood is expected in the early morning of 16 September 2012 (around 3:00 AM)</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378"/>
                                        </p:tgtEl>
                                        <p:attrNameLst>
                                          <p:attrName>style.visibility</p:attrName>
                                        </p:attrNameLst>
                                      </p:cBhvr>
                                      <p:to>
                                        <p:strVal val="visible"/>
                                      </p:to>
                                    </p:set>
                                    <p:anim calcmode="lin" valueType="num">
                                      <p:cBhvr additive="base">
                                        <p:cTn id="27" dur="2000" fill="hold"/>
                                        <p:tgtEl>
                                          <p:spTgt spid="378"/>
                                        </p:tgtEl>
                                        <p:attrNameLst>
                                          <p:attrName>ppt_x</p:attrName>
                                        </p:attrNameLst>
                                      </p:cBhvr>
                                      <p:tavLst>
                                        <p:tav tm="0">
                                          <p:val>
                                            <p:strVal val="1+#ppt_w/2"/>
                                          </p:val>
                                        </p:tav>
                                        <p:tav tm="100000">
                                          <p:val>
                                            <p:strVal val="#ppt_x"/>
                                          </p:val>
                                        </p:tav>
                                      </p:tavLst>
                                    </p:anim>
                                    <p:anim calcmode="lin" valueType="num">
                                      <p:cBhvr additive="base">
                                        <p:cTn id="28" dur="20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990360" y="609120"/>
            <a:ext cx="7543800" cy="5791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unoff forecast as upon 14</a:t>
            </a:r>
            <a:r>
              <a:rPr b="0" lang="en-US" sz="2000" spc="-1" strike="noStrike" baseline="30000">
                <a:solidFill>
                  <a:srgbClr val="000000"/>
                </a:solidFill>
                <a:latin typeface="Century Schoolbook"/>
              </a:rPr>
              <a:t>th</a:t>
            </a:r>
            <a:r>
              <a:rPr b="0" lang="en-US" sz="2000" spc="-1" strike="noStrike">
                <a:solidFill>
                  <a:srgbClr val="000000"/>
                </a:solidFill>
                <a:latin typeface="Century Schoolbook"/>
              </a:rPr>
              <a:t> of September 2012,</a:t>
            </a:r>
            <a:r>
              <a:rPr b="0" lang="en-US" sz="2000" spc="-1" strike="noStrike">
                <a:solidFill>
                  <a:srgbClr val="92d050"/>
                </a:solidFill>
                <a:latin typeface="Century Schoolbook"/>
              </a:rPr>
              <a:t> (Fogera floodplai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84" name="Picture 5" descr="Gumara.jpg"/>
          <p:cNvPicPr/>
          <p:nvPr/>
        </p:nvPicPr>
        <p:blipFill>
          <a:blip r:embed="rId1"/>
          <a:stretch/>
        </p:blipFill>
        <p:spPr>
          <a:xfrm>
            <a:off x="685800" y="1066680"/>
            <a:ext cx="7696080" cy="5029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2">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2000" fill="hold"/>
                                        <p:tgtEl>
                                          <p:spTgt spid="384"/>
                                        </p:tgtEl>
                                        <p:attrNameLst>
                                          <p:attrName>ppt_x</p:attrName>
                                        </p:attrNameLst>
                                      </p:cBhvr>
                                      <p:tavLst>
                                        <p:tav tm="0">
                                          <p:val>
                                            <p:strVal val="1+#ppt_w/2"/>
                                          </p:val>
                                        </p:tav>
                                        <p:tav tm="100000">
                                          <p:val>
                                            <p:strVal val="#ppt_x"/>
                                          </p:val>
                                        </p:tav>
                                      </p:tavLst>
                                    </p:anim>
                                    <p:anim calcmode="lin" valueType="num">
                                      <p:cBhvr additive="base">
                                        <p:cTn id="36" dur="20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828800"/>
            <a:ext cx="74674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THANK YOU</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ESENTATION ON THE MODELING EXPERIENCE OF MOWE</a:t>
            </a:r>
            <a:endParaRPr b="0" lang="en-US" sz="3000" spc="-1" strike="noStrike">
              <a:solidFill>
                <a:srgbClr val="575f6d"/>
              </a:solidFill>
              <a:latin typeface="Century Schoolbook"/>
            </a:endParaRPr>
          </a:p>
        </p:txBody>
      </p:sp>
      <p:sp>
        <p:nvSpPr>
          <p:cNvPr id="353" name=""/>
          <p:cNvSpPr txBox="1"/>
          <p:nvPr/>
        </p:nvSpPr>
        <p:spPr>
          <a:xfrm>
            <a:off x="1142640" y="1676160"/>
            <a:ext cx="6629400" cy="4190760"/>
          </a:xfrm>
          <a:prstGeom prst="rect">
            <a:avLst/>
          </a:prstGeom>
          <a:noFill/>
          <a:ln w="0">
            <a:noFill/>
          </a:ln>
        </p:spPr>
        <p:txBody>
          <a:bodyPr anchor="t">
            <a:normAutofit/>
          </a:bodyPr>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roduction</a:t>
            </a: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eral concept and use of models</a:t>
            </a: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periences of Modeling in the MOWE</a:t>
            </a: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pacity and Challenges</a:t>
            </a: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ay Forward</a:t>
            </a:r>
            <a:endParaRPr b="0" lang="en-US" sz="2400" spc="-1" strike="noStrike">
              <a:solidFill>
                <a:srgbClr val="000000"/>
              </a:solidFill>
              <a:latin typeface="Century Schoolbook"/>
            </a:endParaRPr>
          </a:p>
          <a:p>
            <a:pPr marL="272880" indent="-2728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1320" y="228240"/>
            <a:ext cx="8080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INTRODUCTION</a:t>
            </a:r>
            <a:endParaRPr b="0" lang="en-US" sz="3600" spc="-1" strike="noStrike">
              <a:solidFill>
                <a:srgbClr val="575f6d"/>
              </a:solidFill>
              <a:latin typeface="Century Schoolbook"/>
            </a:endParaRPr>
          </a:p>
        </p:txBody>
      </p:sp>
      <p:sp>
        <p:nvSpPr>
          <p:cNvPr id="355" name="PlaceHolder 2"/>
          <p:cNvSpPr>
            <a:spLocks noGrp="1"/>
          </p:cNvSpPr>
          <p:nvPr>
            <p:ph/>
          </p:nvPr>
        </p:nvSpPr>
        <p:spPr>
          <a:xfrm>
            <a:off x="5790960" y="1218960"/>
            <a:ext cx="3051000" cy="4879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2 basins with 1.13M Sq Km</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 surface water resource of 122BM3</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round water resource  more than 35BM3 and also under study</a:t>
            </a:r>
            <a:endParaRPr b="0" lang="en-US" sz="1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hallenges in terms of development, management optimization that needs reliable tools</a:t>
            </a:r>
            <a:endParaRPr b="0" lang="en-US" sz="1800" spc="-1" strike="noStrike">
              <a:solidFill>
                <a:srgbClr val="000000"/>
              </a:solidFill>
              <a:latin typeface="Century Schoolbook"/>
            </a:endParaRPr>
          </a:p>
        </p:txBody>
      </p:sp>
      <p:pic>
        <p:nvPicPr>
          <p:cNvPr id="356" name="Picture 2" descr=""/>
          <p:cNvPicPr/>
          <p:nvPr/>
        </p:nvPicPr>
        <p:blipFill>
          <a:blip r:embed="rId1"/>
          <a:stretch/>
        </p:blipFill>
        <p:spPr>
          <a:xfrm>
            <a:off x="0" y="1066680"/>
            <a:ext cx="57150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533520"/>
            <a:ext cx="73152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400" spc="-1" strike="noStrike">
                <a:solidFill>
                  <a:srgbClr val="575f6d"/>
                </a:solidFill>
                <a:latin typeface="Century Schoolbook"/>
              </a:rPr>
              <a:t>GENERAL CONCEPT, TYPE AND USE OF MODELS</a:t>
            </a:r>
            <a:endParaRPr b="0" lang="en-US" sz="2400" spc="-1" strike="noStrike">
              <a:solidFill>
                <a:srgbClr val="575f6d"/>
              </a:solidFill>
              <a:latin typeface="Century Schoolbook"/>
            </a:endParaRPr>
          </a:p>
        </p:txBody>
      </p:sp>
      <p:sp>
        <p:nvSpPr>
          <p:cNvPr id="358" name=""/>
          <p:cNvSpPr txBox="1"/>
          <p:nvPr/>
        </p:nvSpPr>
        <p:spPr>
          <a:xfrm>
            <a:off x="456840" y="1295280"/>
            <a:ext cx="7467480" cy="50292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eral Concept</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dels in water resource management are tools that are used to inform decisions about water resources in quantity and quality, Environmental, and water management in Complex regional systems.</a:t>
            </a:r>
            <a:endParaRPr b="0" lang="en-US" sz="2400" spc="-1" strike="noStrike">
              <a:solidFill>
                <a:srgbClr val="000000"/>
              </a:solidFill>
              <a:latin typeface="Century Schoolbook"/>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ype of models</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imulation and optimization models</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ydrological and meteorological models </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saster management models </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ater quality models</a:t>
            </a:r>
            <a:endParaRPr b="0" lang="en-US" sz="2400" spc="-1" strike="noStrike">
              <a:solidFill>
                <a:srgbClr val="000000"/>
              </a:solidFill>
              <a:latin typeface="Century Schoolbook"/>
            </a:endParaRPr>
          </a:p>
          <a:p>
            <a:pPr marL="250920" indent="-2509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sign models</a:t>
            </a:r>
            <a:endParaRPr b="0" lang="en-US" sz="2400" spc="-1" strike="noStrike">
              <a:solidFill>
                <a:srgbClr val="000000"/>
              </a:solidFill>
              <a:latin typeface="Century Schoolbook"/>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152280"/>
            <a:ext cx="74674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USE OF MODELS</a:t>
            </a:r>
            <a:endParaRPr b="0" lang="en-US" sz="2700" spc="-1" strike="noStrike">
              <a:solidFill>
                <a:srgbClr val="575f6d"/>
              </a:solidFill>
              <a:latin typeface="Century Schoolbook"/>
            </a:endParaRPr>
          </a:p>
        </p:txBody>
      </p:sp>
      <p:sp>
        <p:nvSpPr>
          <p:cNvPr id="360" name=""/>
          <p:cNvSpPr txBox="1"/>
          <p:nvPr/>
        </p:nvSpPr>
        <p:spPr>
          <a:xfrm>
            <a:off x="456840" y="685800"/>
            <a:ext cx="8001000" cy="5867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Estimate  runoff from watershed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predict interactions between ground-water and surface water bodie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used to study reservoir operation; to forecast floods and plan flood-control programs; to predict, embankment erosion, and dam breaks; and to plan for ecosystem restoration.</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or the real-time operation and management of water systems and for assessing water supply availability and reliability</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d for determining facility-size requirements for water storage and distribution systems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edict changes in a river bed form and location, including bank erosion, scouring,  changes in the hydraulic regime, and so on.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d for morphological studies in small- and large-scale rivers of all kinds and in all settings, as well in reservoirs.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valuate alternative water allocation scenario and assist in assessing the impact of intervention</a:t>
            </a:r>
            <a:br>
              <a:rPr sz="2000"/>
            </a:b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609120"/>
            <a:ext cx="7467480" cy="808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5f6d"/>
                </a:solidFill>
                <a:latin typeface="Century Schoolbook"/>
              </a:rPr>
              <a:t>EXPERIENCE OF MODELING WITHIN THE MINISTRY</a:t>
            </a:r>
            <a:endParaRPr b="0" lang="en-US" sz="2000" spc="-1" strike="noStrike">
              <a:solidFill>
                <a:srgbClr val="575f6d"/>
              </a:solidFill>
              <a:latin typeface="Century Schoolbook"/>
            </a:endParaRPr>
          </a:p>
        </p:txBody>
      </p:sp>
      <p:sp>
        <p:nvSpPr>
          <p:cNvPr id="362" name=""/>
          <p:cNvSpPr txBox="1"/>
          <p:nvPr/>
        </p:nvSpPr>
        <p:spPr>
          <a:xfrm>
            <a:off x="456840" y="1600200"/>
            <a:ext cx="80010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Ministry of Water and Energy has been developing models for years as part of the Integrated Basin Development Master Plan Studies as well as other specific studies</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ost of the models are developed by consultants and, some experiences using in house staffs</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levant directorates in water resources modeling activities are  Hydrology and Water Quality, Basin Administration Directorate, Water Use Permit and Administration Directorate, Environmental Impact Assessment and Social Development Office, Energy ….. And Research Directorat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1920" y="152280"/>
            <a:ext cx="845820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SOME MODELS THAT ARE DEVELOPED WITHIN THE MINISTRY</a:t>
            </a:r>
            <a:r>
              <a:rPr b="1" lang="en-US" sz="1800" spc="-1" strike="noStrike">
                <a:solidFill>
                  <a:srgbClr val="575f6d"/>
                </a:solidFill>
                <a:latin typeface="Century Schoolbook"/>
              </a:rPr>
              <a:t>	</a:t>
            </a:r>
            <a:endParaRPr b="0" lang="en-US" sz="1800" spc="-1" strike="noStrike">
              <a:solidFill>
                <a:srgbClr val="575f6d"/>
              </a:solidFill>
              <a:latin typeface="Century Schoolbook"/>
            </a:endParaRPr>
          </a:p>
        </p:txBody>
      </p:sp>
      <p:graphicFrame>
        <p:nvGraphicFramePr>
          <p:cNvPr id="364" name=""/>
          <p:cNvGraphicFramePr/>
          <p:nvPr/>
        </p:nvGraphicFramePr>
        <p:xfrm>
          <a:off x="609480" y="609480"/>
          <a:ext cx="7772400" cy="5867640"/>
        </p:xfrm>
        <a:graphic>
          <a:graphicData uri="http://schemas.openxmlformats.org/drawingml/2006/table">
            <a:tbl>
              <a:tblPr/>
              <a:tblGrid>
                <a:gridCol w="457200"/>
                <a:gridCol w="4343400"/>
                <a:gridCol w="2971800"/>
              </a:tblGrid>
              <a:tr h="42660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SR. No.</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Types of Model used For water resource Planning </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72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Project / study</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ater Resource Modeling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ater Balance , Water allocation and Use)</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wash Surface Water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5(</a:t>
                      </a:r>
                      <a:r>
                        <a:rPr b="0" lang="en-US" sz="1400" spc="-1" strike="noStrike">
                          <a:solidFill>
                            <a:srgbClr val="000000"/>
                          </a:solidFill>
                          <a:latin typeface="Times New Roman"/>
                          <a:ea typeface="Calibri"/>
                        </a:rPr>
                        <a:t>Simulation Model)</a:t>
                      </a:r>
                      <a:r>
                        <a:rPr b="1" i="1" lang="en-US" sz="1400" spc="-1" strike="noStrike">
                          <a:solidFill>
                            <a:srgbClr val="000000"/>
                          </a:solidFill>
                          <a:latin typeface="Times New Roman"/>
                          <a:ea typeface="Calibri"/>
                        </a:rPr>
                        <a:t>, WEAP,</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2</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Omo – 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5</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3</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Baro - 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5 Model</a:t>
                      </a:r>
                      <a:r>
                        <a:rPr b="0" lang="en-US" sz="1400" spc="-1" strike="noStrike">
                          <a:solidFill>
                            <a:srgbClr val="000000"/>
                          </a:solidFill>
                          <a:latin typeface="Times New Roman"/>
                          <a:ea typeface="Calibri"/>
                        </a:rPr>
                        <a:t> -for Reservoirs Operation</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4</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bbay Basin 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ATBAL(</a:t>
                      </a:r>
                      <a:r>
                        <a:rPr b="0" lang="en-US" sz="1400" spc="-1" strike="noStrike">
                          <a:solidFill>
                            <a:srgbClr val="000000"/>
                          </a:solidFill>
                          <a:latin typeface="Times New Roman"/>
                          <a:ea typeface="Calibri"/>
                        </a:rPr>
                        <a:t>WBCOMP,</a:t>
                      </a:r>
                      <a:r>
                        <a:rPr b="1" lang="en-US" sz="1400" spc="-1" strike="noStrike">
                          <a:solidFill>
                            <a:srgbClr val="000000"/>
                          </a:solidFill>
                          <a:latin typeface="Times New Roman"/>
                          <a:ea typeface="Calibri"/>
                        </a:rPr>
                        <a:t> </a:t>
                      </a:r>
                      <a:r>
                        <a:rPr b="0" lang="en-US" sz="1400" spc="-1" strike="noStrike">
                          <a:solidFill>
                            <a:srgbClr val="000000"/>
                          </a:solidFill>
                          <a:latin typeface="Times New Roman"/>
                          <a:ea typeface="Calibri"/>
                        </a:rPr>
                        <a:t>WBPLOT, WBFAIL</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5</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RIBASIM</a:t>
                      </a:r>
                      <a:r>
                        <a:rPr b="0" lang="en-US" sz="1400" spc="-1" strike="noStrike">
                          <a:solidFill>
                            <a:srgbClr val="000000"/>
                          </a:solidFill>
                          <a:latin typeface="Times New Roman"/>
                          <a:ea typeface="Calibri"/>
                        </a:rPr>
                        <a:t>-Hydrology</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7</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MIKEBASIN</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8</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9</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tegrated Development Master Plan Studie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EAP</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0</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edimentation Project</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SWAT</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1</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stitutional Setup Studies of Abbay  Basin Project</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Mike 11</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1</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ana Beles Integrated Water Resources Dev. </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EAP</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RAINFALL-RUNOFF MODEL-Watbal</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2</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rrigation and Drainage Project</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EAP</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3</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eservoir operation activity for majior dams in </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ater balance EXEL MODEL</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4</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Rainfall runoff estimation for Flood management in and Awash bain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 HMS</a:t>
                      </a:r>
                      <a:r>
                        <a:rPr b="0" lang="en-US" sz="1400" spc="-1" strike="noStrike">
                          <a:solidFill>
                            <a:srgbClr val="000000"/>
                          </a:solidFill>
                          <a:latin typeface="Calibri"/>
                          <a:ea typeface="Calibri"/>
                        </a:rPr>
                        <a:t>, </a:t>
                      </a:r>
                      <a:r>
                        <a:rPr b="1" lang="en-US" sz="1400" spc="-1" strike="noStrike">
                          <a:solidFill>
                            <a:srgbClr val="000000"/>
                          </a:solidFill>
                          <a:latin typeface="Times New Roman"/>
                          <a:ea typeface="Calibri"/>
                        </a:rPr>
                        <a:t>NAM module of MIKE II</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EC RAS and Geo RAS</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15</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Water Quality</a:t>
                      </a:r>
                      <a:endParaRPr b="0" lang="en-US" sz="14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c>
                  <a:txBody>
                    <a:bodyPr lIns="25200" rIns="252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5200" marR="25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entury Schoolbook"/>
              </a:rPr>
              <a:t>MODELING CAPACITY AND CHALLENGES</a:t>
            </a:r>
            <a:endParaRPr b="0" lang="en-US" sz="2400" spc="-1" strike="noStrike">
              <a:solidFill>
                <a:srgbClr val="575f6d"/>
              </a:solidFill>
              <a:latin typeface="Century Schoolbook"/>
            </a:endParaRPr>
          </a:p>
        </p:txBody>
      </p:sp>
      <p:sp>
        <p:nvSpPr>
          <p:cNvPr id="366" name=""/>
          <p:cNvSpPr txBox="1"/>
          <p:nvPr/>
        </p:nvSpPr>
        <p:spPr>
          <a:xfrm>
            <a:off x="456840" y="685800"/>
            <a:ext cx="7467480" cy="5788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deling Capac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deling capacity within the Ministry is very lo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practical experiences in some directorat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eed to establish modeling un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Modeling soft-wares and equipments availa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alleng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adequate experienced staff</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high turnover of staffs that are trained in modeling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ck of Modeling tools and Equipm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is No take over of the activities undertaken by different studi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FUTURE DIRECTION</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centrate on checking, updating and make use of existing models for operational purpos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gration among different directorat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pacity development, human and institution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operate with different stakeholders, universities and institutes that are working  in modeling</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08:38:16Z</dcterms:created>
  <dc:creator>biruk_k</dc:creator>
  <dc:description/>
  <dc:language>en-US</dc:language>
  <cp:lastModifiedBy>semunesh_g</cp:lastModifiedBy>
  <dcterms:modified xsi:type="dcterms:W3CDTF">2012-11-12T06:47:04Z</dcterms:modified>
  <cp:revision>45</cp:revision>
  <dc:subject/>
  <dc:title>SurSurface waterface water</dc:title>
</cp:coreProperties>
</file>